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BBE-F5F7-446F-B73A-6FC9EE5B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73584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47640" y="4244760"/>
            <a:ext cx="73584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258-42B7-49BD-AF00-CD4D31C3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47640" y="424476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8280" y="424476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B51-94B3-42A4-8F14-29E98B2B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5600" y="159372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560" y="159372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7640" y="424476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35600" y="424476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560" y="424476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AB8-4EFF-4BA4-9566-F8AB4FAE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48D6-3BB5-4A21-9E6F-59ED28F8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D400-672E-470B-BED2-C34966E3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BE59-99AF-457C-923D-4C4B941A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6515-8152-4F4E-BB1D-FB3E3760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CDDC-0E2A-4E2C-9EA6-81041DBA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41160" y="188640"/>
            <a:ext cx="7364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3AB5-30D2-41EB-8823-1392A90B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47640" y="424476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82BE-A671-4482-A648-03F1BC32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5D0-62E0-4CBF-B3F1-2CD84323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8280" y="424476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7FF1-E30E-450F-A8D9-84B275F2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47640" y="4244760"/>
            <a:ext cx="73584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2B9F-32C7-47F7-8E40-E9B1831A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73584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47640" y="4244760"/>
            <a:ext cx="73584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F80A-78FE-4EAF-BB67-78F091C4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47640" y="424476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8280" y="424476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9590-652D-4FF2-BCD0-8A823662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35600" y="159372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3560" y="159372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47640" y="424476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35600" y="424476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3560" y="4244760"/>
            <a:ext cx="236916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092B-45BE-4486-93D4-BFDDEEBC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6FC-458F-46CD-B55A-C57CB3A7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3D5-A014-4955-A62F-0FC865A6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945-50D4-4523-BC4C-73D4D5FA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41160" y="188640"/>
            <a:ext cx="7364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E56-7E1D-4935-B04A-1F59E7F6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47640" y="424476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724-C991-4BC4-9A2A-68C609E7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8280" y="424476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968-F764-4198-8C89-62827F83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8280" y="1593720"/>
            <a:ext cx="3590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47640" y="4244760"/>
            <a:ext cx="73584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E8F-66E7-459D-8853-274846C3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a2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74a3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74a3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74a3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a3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74a3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a3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74a3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756B-7A73-4B7B-92C9-6BA12802C2F7}" type="slidenum">
              <a:rPr b="0" lang="en-US" sz="1400" spc="-1" strike="noStrike">
                <a:solidFill>
                  <a:srgbClr val="474a3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876920"/>
            <a:ext cx="86868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a2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74a3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a3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74a3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a3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74a3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B30C-EFE5-4F27-81A4-DDF211BA636B}" type="slidenum">
              <a:rPr b="0" lang="en-US" sz="1400" spc="-1" strike="noStrike">
                <a:solidFill>
                  <a:srgbClr val="474a3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3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74a3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a3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74a3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a3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74a3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a3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74a3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74a3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a3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74a3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74a3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a3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876920"/>
            <a:ext cx="86868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a2c"/>
                </a:solidFill>
                <a:latin typeface="Tahoma"/>
              </a:rPr>
              <a:t>Estimation</a:t>
            </a: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573372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a38"/>
                </a:solidFill>
                <a:latin typeface="Tahoma"/>
              </a:rPr>
              <a:t>Algebra 1</a:t>
            </a:r>
            <a:endParaRPr b="0" lang="en-US" sz="2800" spc="-1" strike="noStrike">
              <a:solidFill>
                <a:srgbClr val="474a3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74a38"/>
                </a:solidFill>
                <a:latin typeface="Tahoma"/>
              </a:rPr>
              <a:t>Is my answer valid?</a:t>
            </a:r>
            <a:endParaRPr b="0" lang="en-US" sz="28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a2c"/>
                </a:solidFill>
                <a:latin typeface="Tahoma"/>
              </a:rPr>
              <a:t>When am I going to use this?</a:t>
            </a:r>
            <a:endParaRPr b="0" lang="en-US" sz="40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93720"/>
            <a:ext cx="852516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You’re at a restaurant.  It’s time to leave.  The bill amounts to $16.  What do you tip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.if the service was poor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.if the service was good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.if the service was above and beyond your highest expectations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a2c"/>
                </a:solidFill>
                <a:latin typeface="Tahoma"/>
              </a:rPr>
              <a:t>Multiplying by 10</a:t>
            </a: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How do you multiply by 10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38.25 * 10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723.5 * 100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7.3256 * 1000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85.251797 * 10,000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a2c"/>
                </a:solidFill>
                <a:latin typeface="Tahoma"/>
              </a:rPr>
              <a:t>Multiplying by 10</a:t>
            </a: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What if the power of 10 is &lt; 1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38.25 * 0.1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723.5 * 0.001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85.251797 * 0.01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32526.1 * 0.0001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a2c"/>
                </a:solidFill>
                <a:latin typeface="Tahoma"/>
              </a:rPr>
              <a:t>Multiplying by ½ or 0.5</a:t>
            </a: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Multiplying by ½ or 0.5 is like taking half.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84 * 0.5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126 * ½ 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4826 * ½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35684 * 0.5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a2c"/>
                </a:solidFill>
                <a:latin typeface="Tahoma"/>
              </a:rPr>
              <a:t>Multiplying by 15</a:t>
            </a: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640" y="1593720"/>
            <a:ext cx="7358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Multiply by 10 and then take half of that answer.  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Add the 2 values.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12 * 15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24 * 15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76 * 15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1250 * 15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a2c"/>
                </a:solidFill>
                <a:latin typeface="Tahoma"/>
              </a:rPr>
              <a:t>When am I going to use this?</a:t>
            </a:r>
            <a:endParaRPr b="0" lang="en-US" sz="40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593720"/>
            <a:ext cx="852516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You’re at a restaurant.  It’s time to leave.  The bill amounts to $36.  What do you tip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.if the service was poor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.if the service was good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.if the service was above and beyond your highest expectations?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a2c"/>
                </a:solidFill>
                <a:latin typeface="Tahoma"/>
              </a:rPr>
              <a:t>Estimation of Answers</a:t>
            </a:r>
            <a:endParaRPr b="0" lang="en-US" sz="4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93720"/>
            <a:ext cx="852516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Round each value and complete the operation.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82 * 98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898 * 47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635 * 58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1237 * 403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4eaca"/>
              </a:buClr>
              <a:buSzPct val="75000"/>
              <a:buFont typeface="Tahoma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602 * 992,375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1160" y="188640"/>
            <a:ext cx="736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a2c"/>
                </a:solidFill>
                <a:latin typeface="Tahoma"/>
              </a:rPr>
              <a:t>Examples</a:t>
            </a:r>
            <a:br>
              <a:rPr sz="4000"/>
            </a:br>
            <a:r>
              <a:rPr b="0" lang="en-US" sz="2400" spc="-1" strike="noStrike">
                <a:solidFill>
                  <a:srgbClr val="323a2c"/>
                </a:solidFill>
                <a:latin typeface="Tahoma"/>
              </a:rPr>
              <a:t>What is the approximate cost of…</a:t>
            </a:r>
            <a:endParaRPr b="0" lang="en-US" sz="2400" spc="-1" strike="noStrike">
              <a:solidFill>
                <a:srgbClr val="323a2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57800" y="1593720"/>
            <a:ext cx="3648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a38"/>
                </a:solidFill>
                <a:latin typeface="Tahoma"/>
              </a:rPr>
              <a:t>6 Cracker Jacks</a:t>
            </a:r>
            <a:endParaRPr b="0" lang="en-US" sz="24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a38"/>
                </a:solidFill>
                <a:latin typeface="Tahoma"/>
              </a:rPr>
              <a:t>2 Maxwell Coffees</a:t>
            </a:r>
            <a:endParaRPr b="0" lang="en-US" sz="24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a38"/>
                </a:solidFill>
                <a:latin typeface="Tahoma"/>
              </a:rPr>
              <a:t>8 Vienna Sausages</a:t>
            </a:r>
            <a:endParaRPr b="0" lang="en-US" sz="24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a38"/>
                </a:solidFill>
                <a:latin typeface="Tahoma"/>
              </a:rPr>
              <a:t>15 Pringles</a:t>
            </a:r>
            <a:endParaRPr b="0" lang="en-US" sz="2400" spc="-1" strike="noStrike">
              <a:solidFill>
                <a:srgbClr val="474a3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4eaca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a38"/>
                </a:solidFill>
                <a:latin typeface="Tahoma"/>
              </a:rPr>
              <a:t>4 Oscar Meyer bacon</a:t>
            </a:r>
            <a:endParaRPr b="0" lang="en-US" sz="2400" spc="-1" strike="noStrike">
              <a:solidFill>
                <a:srgbClr val="474a3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a3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a38"/>
                </a:solidFill>
                <a:latin typeface="Tahoma"/>
              </a:rPr>
              <a:t>Answers:</a:t>
            </a:r>
            <a:endParaRPr b="0" lang="en-US" sz="3200" spc="-1" strike="noStrike">
              <a:solidFill>
                <a:srgbClr val="474a38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3746" t="47995" r="44994" b="17998"/>
          <a:stretch/>
        </p:blipFill>
        <p:spPr>
          <a:xfrm>
            <a:off x="228600" y="15238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9:05:01Z</dcterms:created>
  <dc:creator>Connie Dolezal</dc:creator>
  <dc:description/>
  <dc:language>en-US</dc:language>
  <cp:lastModifiedBy>Connie Dolezal</cp:lastModifiedBy>
  <dcterms:modified xsi:type="dcterms:W3CDTF">2008-09-02T01:35:05Z</dcterms:modified>
  <cp:revision>4</cp:revision>
  <dc:subject/>
  <dc:title>Estimation</dc:title>
</cp:coreProperties>
</file>